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DB4-099E-4327-9144-A80F64A4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6BE-3332-4705-BE06-3C1C1D93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34A-459F-4FB3-9DD7-C86D93DD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84D-EF13-457B-8BE9-E95A036B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2BE8-1928-47FE-9E80-9109D212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821C-DB11-4EBA-A580-D077CB14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8A80-55AC-4E20-92EF-4170FA70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D9AD-C256-45F4-85F6-A3D872E0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3D8B-1F5B-458C-9784-5B77C874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A440-139F-40F9-963D-FB225AD8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C528-E7F0-4F42-BEFB-C33A6711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1D6-5F60-493F-998D-6F346E94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D370-D0B1-4A58-848B-C5672D61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BCC9-CA73-46D8-B888-F6FE9A6E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3A04-BEB7-4F3E-A98D-24DD3F53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FBEC-0F8C-4240-8B24-F68D452C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E440-25E6-475D-B376-C9F16FD6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4D0-0537-4F5A-BF9D-8CE8C06F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251-C346-4831-A941-1E6DFC9D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BE5-D9E1-41E7-8617-62D34B10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CC7-DF22-4ED3-9054-6882BC2C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5C77-3A96-4C82-A80D-4C80804B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703-4D1D-4ADB-B441-964F9C15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5D1-FFE8-42A3-B9A5-D17F83FB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3014-2655-4FE3-B383-178ABDEFE9BD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74A5-B7B0-47C9-B89E-D66111BDAAFB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en.wikipedia.org/wiki/Image:Mao.JPG" TargetMode="External"/><Relationship Id="rId3" Type="http://schemas.openxmlformats.org/officeDocument/2006/relationships/hyperlink" Target="http://en.wikipedia.org/wiki/Image:Mao.JPG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2/Wattsriots-burningbuildings-loc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en.wikipedia.org/wiki/Image:Malcolm_X_NYWTS_2a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.3:  New Civil Right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Economic equality, poverty, and the rise of militant leadershi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.  Black Pan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eveloped to fight police brutality in ghettos of Oakland, Ca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YI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rganization greatly involved in community service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320" y="1731960"/>
            <a:ext cx="17859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0" tIns="-107280" bIns="-8028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3600" y="1731960"/>
            <a:ext cx="9001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280008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714680" y="57168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0600" y="195120"/>
            <a:ext cx="890424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o Zedong-Black Panther Conn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ower flows out of the barrel of a gun.”                                 </a:t>
            </a:r>
            <a:r>
              <a:rPr b="0" lang="en-US" sz="3200" spc="-1" strike="noStrike" u="sng">
                <a:solidFill>
                  <a:srgbClr val="ae4828"/>
                </a:solidFill>
                <a:uFillTx/>
                <a:latin typeface="Arial"/>
                <a:hlinkClick r:id="rId2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5" name="" descr="Mao Zedo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2133720"/>
            <a:ext cx="2149560" cy="2857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-2344680" y="1486080"/>
            <a:ext cx="85042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Original 6 members"/>
          <p:cNvPicPr/>
          <p:nvPr/>
        </p:nvPicPr>
        <p:blipFill>
          <a:blip r:embed="rId5"/>
          <a:stretch/>
        </p:blipFill>
        <p:spPr>
          <a:xfrm>
            <a:off x="5105520" y="2133720"/>
            <a:ext cx="348588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 April 4, 19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James Earl Ray assassinates ML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iolence erupts throughout the US/125 c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33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094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2498760" cy="3440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114800" y="2590920"/>
            <a:ext cx="48006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.  Civil Rights Leg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*  Civil Rights Act 1964; banned discrimination in public places and employment due to race etc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*   Civil Rights Act 1968; banned discrimination in hous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nded de jure segreg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chool integ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llege enrollment increas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lack prid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A curriculu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ntertain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2/3rds registered vot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7,000 elected official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*  Affirmative action: making special efforts to hire or enroll groups that have suffered from discrimination in the pa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Urba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712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 </a:t>
            </a:r>
            <a:r>
              <a:rPr b="0" i="1" lang="en-US" sz="2000" spc="-1" strike="noStrike">
                <a:solidFill>
                  <a:srgbClr val="333333"/>
                </a:solidFill>
                <a:latin typeface="Times New Roman"/>
              </a:rPr>
              <a:t>facto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segregation – segregation by practice (it is a </a:t>
            </a:r>
            <a:r>
              <a:rPr b="0" i="1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fa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 </a:t>
            </a:r>
            <a:r>
              <a:rPr b="0" i="1" lang="en-US" sz="2000" spc="-1" strike="noStrike">
                <a:solidFill>
                  <a:srgbClr val="333333"/>
                </a:solidFill>
                <a:latin typeface="Times New Roman"/>
              </a:rPr>
              <a:t>ju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segregation – segregation by law (the 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jur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Whites did not want social and economic equality with A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White fligh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– whites moving to suburb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ow paying jobs/incom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ow work posi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oor neighborhoods: overcrowded, dirty, crime, drop out, single parent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Hopes raised but nothing else =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 Urban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.  Harlem,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Arial"/>
              </a:rPr>
              <a:t>Watts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, Chicago, Detroit…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.  Needed economic equality: opportunity i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jobs, housing, and educ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76960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File:Wattsriots-burningbuildings-lo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868680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. Kerner Com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mmittee appointed by Pres. Johnson to study causes of urban viol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nclusion:  racism against the AA community was the cau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Johnson ignores many recommendations due to white opposi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.  The Shift to Economic R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1. 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Chicago Movemen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6a695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LK moves into AA neighborhood in Chicag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6a695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ped to bring change in hous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6a695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ed march through white neighborhood; met with resistanc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6a695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yor Daley - CPD to protect marcher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6a695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ew programs dev by bankers and realtors to promote open hous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6a695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o real chang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675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09680" y="1819440"/>
            <a:ext cx="6096240" cy="5038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  Cicero, Illinois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 move into neighbor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 “Black Pow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1.   Stokely Carmichael; head of SNCC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buClr>
                <a:srgbClr val="6a6954"/>
              </a:buClr>
              <a:buSzPct val="8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anted only Blacks to fight “for the cause”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Kling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mphasized Black prid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" name="" descr="image 1"/>
          <p:cNvPicPr/>
          <p:nvPr/>
        </p:nvPicPr>
        <p:blipFill>
          <a:blip r:embed="rId1"/>
          <a:stretch/>
        </p:blipFill>
        <p:spPr>
          <a:xfrm>
            <a:off x="5562720" y="1828800"/>
            <a:ext cx="2617560" cy="411804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3675240" y="2017800"/>
            <a:ext cx="9144000" cy="360"/>
            <a:chOff x="3675240" y="2017800"/>
            <a:chExt cx="9144000" cy="360"/>
          </a:xfrm>
        </p:grpSpPr>
        <p:sp>
          <p:nvSpPr>
            <p:cNvPr id="127" name=""/>
            <p:cNvSpPr/>
            <p:nvPr/>
          </p:nvSpPr>
          <p:spPr>
            <a:xfrm>
              <a:off x="3675240" y="20178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5240" y="20178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.  Malcolm “X” Lit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ember of the Nation of Isla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dvocated armed self-defense &amp; black nationalis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ceived a lot of press/controversia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Hajj/returns w/“Ballots or Bullets” theor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ssassinated during speaking engagem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1828800"/>
            <a:ext cx="331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3-22T15:18:45Z</dcterms:modified>
  <cp:revision>10</cp:revision>
  <dc:subject/>
  <dc:title>PowerPoint Presentation</dc:title>
</cp:coreProperties>
</file>